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144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937880" y="744120"/>
            <a:ext cx="279252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D7CEC-5660-4FD3-8B3A-A4A40A1838A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5D04A-1605-448A-92B5-45938B92C2F2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976400" y="768240"/>
            <a:ext cx="2757600" cy="36766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754520"/>
            <a:ext cx="488160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5B96-46DA-4CCF-A4C5-419987A17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EF3C-7060-44D0-811A-5491BE0DE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BF69-C7CA-48AF-99BD-4FF63F125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3074-1198-423E-B62E-902B5E97A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43BE-2D6B-478B-B67A-37D2179F0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4374-C1F2-46CA-81F6-AD1F90EBE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95EF-3092-4AC9-9B44-38B962613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CBFA-90A8-4EF2-B56F-8FAECDAD3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F430-6B6E-480B-947A-55BAE8D3E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866F-9BD7-43FA-969C-39D39A2B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C448-3E6E-4F72-A360-2E605FE8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5F2E-AFA3-4DFD-9658-49221B18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53DE1-424A-43C6-91EC-38A35BBC405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2" descr="인감"/>
          <p:cNvPicPr/>
          <p:nvPr/>
        </p:nvPicPr>
        <p:blipFill>
          <a:blip r:embed="rId1"/>
          <a:stretch/>
        </p:blipFill>
        <p:spPr>
          <a:xfrm>
            <a:off x="5934240" y="8555040"/>
            <a:ext cx="419040" cy="4176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514440" y="939960"/>
            <a:ext cx="5976720" cy="10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돋움"/>
                <a:ea typeface="돋움"/>
              </a:rPr>
              <a:t>문서번호 </a:t>
            </a:r>
            <a:r>
              <a:rPr b="1" lang="en-US" sz="1100" spc="-1" strike="noStrike">
                <a:solidFill>
                  <a:srgbClr val="000000"/>
                </a:solidFill>
                <a:latin typeface="돋움"/>
                <a:ea typeface="돋움"/>
              </a:rPr>
              <a:t>: LIG</a:t>
            </a:r>
            <a:r>
              <a:rPr b="1" lang="ko-KR" sz="1100" spc="-1" strike="noStrike">
                <a:solidFill>
                  <a:srgbClr val="000000"/>
                </a:solidFill>
                <a:latin typeface="돋움"/>
                <a:ea typeface="돋움"/>
              </a:rPr>
              <a:t>넥스원 </a:t>
            </a:r>
            <a:r>
              <a:rPr b="1" lang="en-US" sz="1100" spc="-1" strike="noStrike">
                <a:solidFill>
                  <a:srgbClr val="000000"/>
                </a:solidFill>
                <a:latin typeface="돋움"/>
                <a:ea typeface="돋움"/>
              </a:rPr>
              <a:t>HR08-60</a:t>
            </a:r>
            <a:r>
              <a:rPr b="1" lang="ko-KR" sz="1100" spc="-1" strike="noStrike">
                <a:solidFill>
                  <a:srgbClr val="000000"/>
                </a:solidFill>
                <a:latin typeface="돋움"/>
                <a:ea typeface="돋움"/>
              </a:rPr>
              <a:t>호                                                               </a:t>
            </a:r>
            <a:r>
              <a:rPr b="1" lang="en-US" sz="1100" spc="-1" strike="noStrike">
                <a:solidFill>
                  <a:srgbClr val="ff3300"/>
                </a:solidFill>
                <a:latin typeface="돋움"/>
                <a:ea typeface="돋움"/>
              </a:rPr>
              <a:t>`08.09.29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돋움"/>
                <a:ea typeface="돋움"/>
              </a:rPr>
              <a:t>수      신 </a:t>
            </a:r>
            <a:r>
              <a:rPr b="1" lang="en-US" sz="1100" spc="-1" strike="noStrike">
                <a:solidFill>
                  <a:srgbClr val="000000"/>
                </a:solidFill>
                <a:latin typeface="돋움"/>
                <a:ea typeface="돋움"/>
              </a:rPr>
              <a:t>: </a:t>
            </a:r>
            <a:r>
              <a:rPr b="1" lang="ko-KR" sz="1100" spc="-1" strike="noStrike">
                <a:solidFill>
                  <a:srgbClr val="000000"/>
                </a:solidFill>
                <a:latin typeface="돋움"/>
                <a:ea typeface="돋움"/>
              </a:rPr>
              <a:t>광주과학기술원 총장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돋움"/>
                <a:ea typeface="돋움"/>
              </a:rPr>
              <a:t>참      조 </a:t>
            </a:r>
            <a:r>
              <a:rPr b="1" lang="en-US" sz="1100" spc="-1" strike="noStrike">
                <a:solidFill>
                  <a:srgbClr val="000000"/>
                </a:solidFill>
                <a:latin typeface="돋움"/>
                <a:ea typeface="돋움"/>
              </a:rPr>
              <a:t>: </a:t>
            </a:r>
            <a:r>
              <a:rPr b="1" lang="ko-KR" sz="1100" spc="-1" strike="noStrike">
                <a:solidFill>
                  <a:srgbClr val="000000"/>
                </a:solidFill>
                <a:latin typeface="돋움"/>
                <a:ea typeface="돋움"/>
              </a:rPr>
              <a:t>취업지원센터 장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돋움"/>
                <a:ea typeface="돋움"/>
              </a:rPr>
              <a:t>제      목 </a:t>
            </a:r>
            <a:r>
              <a:rPr b="1" lang="en-US" sz="1100" spc="-1" strike="noStrike">
                <a:solidFill>
                  <a:srgbClr val="000000"/>
                </a:solidFill>
                <a:latin typeface="돋움"/>
                <a:ea typeface="돋움"/>
              </a:rPr>
              <a:t>: LIG</a:t>
            </a:r>
            <a:r>
              <a:rPr b="1" lang="ko-KR" sz="1100" spc="-1" strike="noStrike">
                <a:solidFill>
                  <a:srgbClr val="000000"/>
                </a:solidFill>
                <a:latin typeface="돋움"/>
                <a:ea typeface="돋움"/>
              </a:rPr>
              <a:t>넥스원㈜ </a:t>
            </a:r>
            <a:r>
              <a:rPr b="1" lang="en-US" sz="1100" spc="-1" strike="noStrike">
                <a:solidFill>
                  <a:srgbClr val="000000"/>
                </a:solidFill>
                <a:latin typeface="돋움"/>
                <a:ea typeface="돋움"/>
              </a:rPr>
              <a:t>- 2008</a:t>
            </a:r>
            <a:r>
              <a:rPr b="1" lang="ko-KR" sz="1100" spc="-1" strike="noStrike">
                <a:solidFill>
                  <a:srgbClr val="000000"/>
                </a:solidFill>
                <a:latin typeface="돋움"/>
                <a:ea typeface="돋움"/>
              </a:rPr>
              <a:t>년 하반기 대졸 신입 및 경력사원 모집안내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611280" y="5349960"/>
            <a:ext cx="5954760" cy="28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바탕체"/>
              </a:rPr>
              <a:t>Ⅰ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. </a:t>
            </a:r>
            <a:r>
              <a:rPr b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채용설명회 및 채용면담 실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ts val="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바탕체"/>
              </a:rPr>
              <a:t>Ⅱ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. </a:t>
            </a:r>
            <a:r>
              <a:rPr b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모집요강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(☞ </a:t>
            </a:r>
            <a:r>
              <a:rPr b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별첨자료 참조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)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바탕체"/>
              </a:rPr>
              <a:t>Ⅲ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. </a:t>
            </a:r>
            <a:r>
              <a:rPr b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원서접수 및 방법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- </a:t>
            </a:r>
            <a:r>
              <a:rPr b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기   한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: ’08.10.06(</a:t>
            </a:r>
            <a:r>
              <a:rPr b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월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) ~ ’08.10.21(</a:t>
            </a:r>
            <a:r>
              <a:rPr b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화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) 17: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- </a:t>
            </a:r>
            <a:r>
              <a:rPr b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방   법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: </a:t>
            </a:r>
            <a:r>
              <a:rPr b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온라인접수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(Homepage(www.lignex1.com)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『</a:t>
            </a:r>
            <a:r>
              <a:rPr b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채용 →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Online </a:t>
            </a:r>
            <a:r>
              <a:rPr b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지원 → 공개채용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』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- </a:t>
            </a:r>
            <a:r>
              <a:rPr b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문의전화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서울 송지혜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(jhsongc@lignex1.com) /  02-2033-0573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용인 강준구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(jkkang@lignex1.com) /  031-288-9186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구미 박기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(kcpark@lignex1.com) /  054-469-8158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2818080" y="4921200"/>
            <a:ext cx="1117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-  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다             음   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331920" y="2147760"/>
            <a:ext cx="636732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          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1.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귀교의 무궁한 발전을 기원합니다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          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2.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당사는 자주국방 실현을 위해 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1976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년 금정정밀로 출발하여 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LG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정밀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, LG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이노텍㈜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             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넥스원퓨쳐㈜를 거쳐 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30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년 동안 오로지 자주국방을 위해 모든 역량과 능력을 집중해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             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온 국내 최고의 방위산업체입니다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1" lang="en-US" sz="1000" spc="-1" strike="noStrike">
                <a:solidFill>
                  <a:srgbClr val="000000"/>
                </a:solidFill>
                <a:latin typeface="Century Gothic"/>
                <a:ea typeface="돋움"/>
              </a:rPr>
              <a:t>’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04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년 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7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월 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1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일부로 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LG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그룹에서 분리하였으며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              </a:t>
            </a:r>
            <a:r>
              <a:rPr b="1" lang="en-US" sz="1000" spc="-1" strike="noStrike">
                <a:solidFill>
                  <a:srgbClr val="000000"/>
                </a:solidFill>
                <a:latin typeface="Century Gothic"/>
                <a:ea typeface="돋움"/>
              </a:rPr>
              <a:t>‘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07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년 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4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월 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1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일부로 </a:t>
            </a:r>
            <a:r>
              <a:rPr b="1" lang="en-US" sz="1000" spc="-1" strike="noStrike">
                <a:solidFill>
                  <a:srgbClr val="3333ff"/>
                </a:solidFill>
                <a:latin typeface="돋움"/>
                <a:ea typeface="돋움"/>
              </a:rPr>
              <a:t>LIG</a:t>
            </a:r>
            <a:r>
              <a:rPr b="1" lang="ko-KR" sz="1000" spc="-1" strike="noStrike">
                <a:solidFill>
                  <a:srgbClr val="3333ff"/>
                </a:solidFill>
                <a:latin typeface="돋움"/>
                <a:ea typeface="돋움"/>
              </a:rPr>
              <a:t>넥스원㈜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로 사명을 변경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현재 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LIG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그룹의 관계사인 방위산업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             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전문업체입니다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. 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          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3.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당사에서는 유도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/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수중장비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레이더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통신장비 및 정보전자전 장비 등의 방위산업용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             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첨단  전자장비를 개발하고 있으며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세계적 수준의 초고주파 핵심기술을 바탕으로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             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핵심사업을 이끌어 갈 우수한 인재를 확보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육성해 나가고 있습니다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.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          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4.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이에 당사에서는 </a:t>
            </a:r>
            <a:r>
              <a:rPr b="1" lang="en-US" sz="1000" spc="-1" strike="noStrike">
                <a:solidFill>
                  <a:srgbClr val="3333ff"/>
                </a:solidFill>
                <a:latin typeface="돋움"/>
                <a:ea typeface="돋움"/>
              </a:rPr>
              <a:t>2008</a:t>
            </a:r>
            <a:r>
              <a:rPr b="1" lang="ko-KR" sz="1000" spc="-1" strike="noStrike">
                <a:solidFill>
                  <a:srgbClr val="3333ff"/>
                </a:solidFill>
                <a:latin typeface="돋움"/>
                <a:ea typeface="돋움"/>
              </a:rPr>
              <a:t>년 대졸 신입 및 경력사원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을 선발하고자 하오니 적극적인 협조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             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부탁드립니다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1797840" y="351000"/>
            <a:ext cx="22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Century Gothic"/>
                <a:ea typeface="돋움"/>
              </a:rPr>
              <a:t>서울시 강남구 역삼동 </a:t>
            </a:r>
            <a:r>
              <a:rPr b="0" lang="en-US" sz="900" spc="-1" strike="noStrike">
                <a:solidFill>
                  <a:srgbClr val="000000"/>
                </a:solidFill>
                <a:latin typeface="Century Gothic"/>
                <a:ea typeface="돋움"/>
              </a:rPr>
              <a:t>838</a:t>
            </a:r>
            <a:r>
              <a:rPr b="0" lang="ko-KR" sz="900" spc="-1" strike="noStrike">
                <a:solidFill>
                  <a:srgbClr val="000000"/>
                </a:solidFill>
                <a:latin typeface="Century Gothic"/>
                <a:ea typeface="돋움"/>
              </a:rPr>
              <a:t>번지 푸르덴셜타워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  <a:ea typeface="돋움"/>
              </a:rPr>
              <a:t>Tel : 02-2033-0573    Fax : 02-2033-0611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4321080" y="8302680"/>
            <a:ext cx="2838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돋움체"/>
                <a:ea typeface="돋움체"/>
              </a:rPr>
              <a:t>LIG </a:t>
            </a:r>
            <a:r>
              <a:rPr b="1" lang="ko-KR" sz="1500" spc="-1" strike="noStrike">
                <a:solidFill>
                  <a:srgbClr val="000000"/>
                </a:solidFill>
                <a:latin typeface="돋움체"/>
                <a:ea typeface="돋움체"/>
              </a:rPr>
              <a:t>넥스원주식회사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000000"/>
                </a:solidFill>
                <a:latin typeface="돋움체"/>
                <a:ea typeface="돋움체"/>
              </a:rPr>
              <a:t>대표이사  이 효 구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Line 8"/>
          <p:cNvSpPr/>
          <p:nvPr/>
        </p:nvSpPr>
        <p:spPr>
          <a:xfrm>
            <a:off x="533520" y="2050920"/>
            <a:ext cx="5790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Line 9"/>
          <p:cNvSpPr/>
          <p:nvPr/>
        </p:nvSpPr>
        <p:spPr>
          <a:xfrm>
            <a:off x="533520" y="2097000"/>
            <a:ext cx="5790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Line 10"/>
          <p:cNvSpPr/>
          <p:nvPr/>
        </p:nvSpPr>
        <p:spPr>
          <a:xfrm>
            <a:off x="533520" y="895320"/>
            <a:ext cx="5790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8" name="Picture 11" descr="LIG넥스원"/>
          <p:cNvPicPr/>
          <p:nvPr/>
        </p:nvPicPr>
        <p:blipFill>
          <a:blip r:embed="rId2"/>
          <a:stretch/>
        </p:blipFill>
        <p:spPr>
          <a:xfrm>
            <a:off x="257040" y="117360"/>
            <a:ext cx="1400400" cy="5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858960" y="5610240"/>
          <a:ext cx="5449680" cy="762120"/>
        </p:xfrm>
        <a:graphic>
          <a:graphicData uri="http://schemas.openxmlformats.org/drawingml/2006/table">
            <a:tbl>
              <a:tblPr/>
              <a:tblGrid>
                <a:gridCol w="858600"/>
                <a:gridCol w="2502000"/>
                <a:gridCol w="2089080"/>
              </a:tblGrid>
              <a:tr h="297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채용설명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1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2008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년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10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월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16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일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목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) 16:00~17: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해림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H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채용면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1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2008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년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10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월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15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일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수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)~16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일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목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) 10:00~17: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해림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Hall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로비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5T00:22:46Z</dcterms:created>
  <dc:creator>70399</dc:creator>
  <dc:description/>
  <dc:language>en-US</dc:language>
  <cp:lastModifiedBy>김수연</cp:lastModifiedBy>
  <dcterms:modified xsi:type="dcterms:W3CDTF">2008-10-01T00:57:53Z</dcterms:modified>
  <cp:revision>42</cp:revision>
  <dc:subject/>
  <dc:title>슬라이드 1</dc:title>
</cp:coreProperties>
</file>